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wmf" ContentType="image/x-wmf"/>
  <Override PartName="/ppt/media/image6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54E-2E5B-4D5D-B198-188CEE0E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4EA-126F-43DD-8F30-1183DE3F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E37-6BAD-4582-863D-661FABE0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C95-B0BA-4857-87D7-7B4614A2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66A0-D18C-46D0-AAA1-3C483D62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CBA8-EB7D-4D13-9811-DB4D55AD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ED85-4B48-4392-BB52-FA9D3410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4D99-FF75-450B-A57C-9D1B96DE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5C72-C21C-42A4-840F-A60957F3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CAE3-4E51-4A50-9E75-726E89F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BDA5-D093-45A8-9731-E86BD3AA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0DF-37DC-48F2-94CF-8EED231F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3AA9-20DF-4AEB-840C-4FF5DD0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E9B2-B625-4424-86DF-5211090D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97A5-B183-44CF-9F48-1D03E1FB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AFB4-5A02-4AD6-B8A9-AE32BA51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4995-D895-4887-9D27-F1934F87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1F7B-74D0-421E-9A70-74DA1C22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7C89-A1DE-436C-966D-95A2CF80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11C4-6883-4135-8CAE-8A6578E9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63A5-6B5C-4E7B-8915-41DE3DD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A36C-A724-4AF3-8520-D63F0102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D62-8919-4B14-B49B-E058369E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BA30-4F55-496F-A38B-96C630B6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4867-542C-4479-9ADE-0CB33430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3D90-41D9-4563-A125-FD96309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C9B6-E76C-4467-B9F3-F0DDEE9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F041-D126-4C34-87F2-63C65776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0594-0D6E-4F5B-AAF7-CC004404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14DE-F6F3-4F35-ACCA-D783E41A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BD8-A6C1-446F-831C-724404E8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604-0BC6-461E-A345-03040BEB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E24-DBB3-45B3-B6C1-711ADDF7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507-E457-4239-8D37-51FBC54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654-5084-4660-8053-3F47E1C5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5CB-9548-4CD4-A55F-67BCDDA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D807-D339-4FC3-8FEF-04647B1BE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7EF3-3D8F-4361-88D6-6C86903DA22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698E-7B88-4A84-9182-71D8F01F14D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slide" Target="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wmf"/><Relationship Id="rId3" Type="http://schemas.openxmlformats.org/officeDocument/2006/relationships/slide" Target="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slide" Target="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1958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357720" y="1752480"/>
            <a:ext cx="244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elco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ex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817640" cy="1307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781680" y="2438280"/>
            <a:ext cx="19814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Mexican Fl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rcRect l="13898" t="58284" r="10020" b="0"/>
          <a:stretch/>
        </p:blipFill>
        <p:spPr>
          <a:xfrm rot="19027200">
            <a:off x="6781320" y="3809520"/>
            <a:ext cx="2087640" cy="11462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 rot="20506800">
            <a:off x="533160" y="1981080"/>
            <a:ext cx="16952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r neighbo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out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815328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743200" y="1905120"/>
            <a:ext cx="3743280" cy="23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 rot="955800">
            <a:off x="533160" y="4267080"/>
            <a:ext cx="1947600" cy="187344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8001000" y="586728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838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9" name=""/>
          <p:cNvSpPr/>
          <p:nvPr/>
        </p:nvSpPr>
        <p:spPr>
          <a:xfrm>
            <a:off x="1230480" y="3657600"/>
            <a:ext cx="35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Blanco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67280" y="3733920"/>
            <a:ext cx="12956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8001000" y="5867280"/>
            <a:ext cx="890640" cy="738360"/>
          </a:xfrm>
          <a:custGeom>
            <a:avLst/>
            <a:gdLst>
              <a:gd name="textAreaLeft" fmla="*/ 47520 w 890640"/>
              <a:gd name="textAreaRight" fmla="*/ 843120 w 89064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6053" h="21600">
                <a:moveTo>
                  <a:pt x="0" y="0"/>
                </a:moveTo>
                <a:lnTo>
                  <a:pt x="26053" y="0"/>
                </a:lnTo>
                <a:lnTo>
                  <a:pt x="26053" y="21600"/>
                </a:lnTo>
                <a:lnTo>
                  <a:pt x="0" y="21600"/>
                </a:lnTo>
                <a:close/>
              </a:path>
              <a:path fill="lightenLess" w="26053" h="21600">
                <a:moveTo>
                  <a:pt x="0" y="0"/>
                </a:moveTo>
                <a:lnTo>
                  <a:pt x="26053" y="0"/>
                </a:lnTo>
                <a:lnTo>
                  <a:pt x="24653" y="1400"/>
                </a:lnTo>
                <a:lnTo>
                  <a:pt x="1400" y="1400"/>
                </a:lnTo>
                <a:close/>
              </a:path>
              <a:path fill="darken" w="26053" h="21600">
                <a:moveTo>
                  <a:pt x="26053" y="0"/>
                </a:moveTo>
                <a:lnTo>
                  <a:pt x="26053" y="21600"/>
                </a:lnTo>
                <a:lnTo>
                  <a:pt x="24653" y="20200"/>
                </a:lnTo>
                <a:lnTo>
                  <a:pt x="24653" y="1400"/>
                </a:lnTo>
                <a:close/>
              </a:path>
              <a:path fill="darkenLess" w="26053" h="21600">
                <a:moveTo>
                  <a:pt x="26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3" y="20200"/>
                </a:lnTo>
                <a:close/>
              </a:path>
              <a:path fill="lighten" w="26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3" h="21600">
                <a:moveTo>
                  <a:pt x="6020" y="3794"/>
                </a:moveTo>
                <a:lnTo>
                  <a:pt x="20033" y="10800"/>
                </a:lnTo>
                <a:lnTo>
                  <a:pt x="602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100320" y="106668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Azul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1600200" y="3733920"/>
            <a:ext cx="16668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5724360" y="3733920"/>
            <a:ext cx="166716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743200" y="1905120"/>
            <a:ext cx="3743280" cy="23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8001000" y="5791320"/>
            <a:ext cx="814320" cy="738000"/>
          </a:xfrm>
          <a:custGeom>
            <a:avLst/>
            <a:gdLst>
              <a:gd name="textAreaLeft" fmla="*/ 47520 w 814320"/>
              <a:gd name="textAreaRight" fmla="*/ 766800 w 81432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3833" h="21600">
                <a:moveTo>
                  <a:pt x="0" y="0"/>
                </a:moveTo>
                <a:lnTo>
                  <a:pt x="23833" y="0"/>
                </a:lnTo>
                <a:lnTo>
                  <a:pt x="23833" y="21600"/>
                </a:lnTo>
                <a:lnTo>
                  <a:pt x="0" y="21600"/>
                </a:lnTo>
                <a:close/>
              </a:path>
              <a:path fill="lightenLess" w="23833" h="21600">
                <a:moveTo>
                  <a:pt x="0" y="0"/>
                </a:moveTo>
                <a:lnTo>
                  <a:pt x="23833" y="0"/>
                </a:lnTo>
                <a:lnTo>
                  <a:pt x="22433" y="1400"/>
                </a:lnTo>
                <a:lnTo>
                  <a:pt x="1400" y="1400"/>
                </a:lnTo>
                <a:close/>
              </a:path>
              <a:path fill="darken" w="23833" h="21600">
                <a:moveTo>
                  <a:pt x="23833" y="0"/>
                </a:moveTo>
                <a:lnTo>
                  <a:pt x="23833" y="21600"/>
                </a:lnTo>
                <a:lnTo>
                  <a:pt x="22433" y="20200"/>
                </a:lnTo>
                <a:lnTo>
                  <a:pt x="22433" y="1400"/>
                </a:lnTo>
                <a:close/>
              </a:path>
              <a:path fill="darkenLess" w="23833" h="21600">
                <a:moveTo>
                  <a:pt x="238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3" y="20200"/>
                </a:lnTo>
                <a:close/>
              </a:path>
              <a:path fill="lighten" w="238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3" h="21600">
                <a:moveTo>
                  <a:pt x="4910" y="3794"/>
                </a:moveTo>
                <a:lnTo>
                  <a:pt x="18923" y="10800"/>
                </a:lnTo>
                <a:lnTo>
                  <a:pt x="49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39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247760" y="15811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1042920" y="3429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Azul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3200400"/>
            <a:ext cx="16668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7924680" y="5867280"/>
            <a:ext cx="890640" cy="738360"/>
          </a:xfrm>
          <a:custGeom>
            <a:avLst/>
            <a:gdLst>
              <a:gd name="textAreaLeft" fmla="*/ 47520 w 890640"/>
              <a:gd name="textAreaRight" fmla="*/ 843120 w 89064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6053" h="21600">
                <a:moveTo>
                  <a:pt x="0" y="0"/>
                </a:moveTo>
                <a:lnTo>
                  <a:pt x="26053" y="0"/>
                </a:lnTo>
                <a:lnTo>
                  <a:pt x="26053" y="21600"/>
                </a:lnTo>
                <a:lnTo>
                  <a:pt x="0" y="21600"/>
                </a:lnTo>
                <a:close/>
              </a:path>
              <a:path fill="lightenLess" w="26053" h="21600">
                <a:moveTo>
                  <a:pt x="0" y="0"/>
                </a:moveTo>
                <a:lnTo>
                  <a:pt x="26053" y="0"/>
                </a:lnTo>
                <a:lnTo>
                  <a:pt x="24653" y="1400"/>
                </a:lnTo>
                <a:lnTo>
                  <a:pt x="1400" y="1400"/>
                </a:lnTo>
                <a:close/>
              </a:path>
              <a:path fill="darken" w="26053" h="21600">
                <a:moveTo>
                  <a:pt x="26053" y="0"/>
                </a:moveTo>
                <a:lnTo>
                  <a:pt x="26053" y="21600"/>
                </a:lnTo>
                <a:lnTo>
                  <a:pt x="24653" y="20200"/>
                </a:lnTo>
                <a:lnTo>
                  <a:pt x="24653" y="1400"/>
                </a:lnTo>
                <a:close/>
              </a:path>
              <a:path fill="darkenLess" w="26053" h="21600">
                <a:moveTo>
                  <a:pt x="26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3" y="20200"/>
                </a:lnTo>
                <a:close/>
              </a:path>
              <a:path fill="lighten" w="26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3" h="21600">
                <a:moveTo>
                  <a:pt x="6020" y="3794"/>
                </a:moveTo>
                <a:lnTo>
                  <a:pt x="20033" y="10800"/>
                </a:lnTo>
                <a:lnTo>
                  <a:pt x="602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600200" y="609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Cabello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3124080"/>
            <a:ext cx="2143080" cy="2360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3200400"/>
            <a:ext cx="2743200" cy="2220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7924680" y="5791320"/>
            <a:ext cx="738360" cy="81432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21">
                <a:moveTo>
                  <a:pt x="0" y="0"/>
                </a:moveTo>
                <a:lnTo>
                  <a:pt x="21600" y="0"/>
                </a:lnTo>
                <a:lnTo>
                  <a:pt x="21600" y="23821"/>
                </a:lnTo>
                <a:lnTo>
                  <a:pt x="0" y="23821"/>
                </a:lnTo>
                <a:close/>
              </a:path>
              <a:path fill="lightenLess" w="21600" h="238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21">
                <a:moveTo>
                  <a:pt x="21600" y="0"/>
                </a:moveTo>
                <a:lnTo>
                  <a:pt x="21600" y="23821"/>
                </a:lnTo>
                <a:lnTo>
                  <a:pt x="20200" y="22421"/>
                </a:lnTo>
                <a:lnTo>
                  <a:pt x="20200" y="1400"/>
                </a:lnTo>
                <a:close/>
              </a:path>
              <a:path fill="darkenLess" w="21600" h="23821">
                <a:moveTo>
                  <a:pt x="21600" y="23821"/>
                </a:moveTo>
                <a:lnTo>
                  <a:pt x="0" y="23821"/>
                </a:lnTo>
                <a:lnTo>
                  <a:pt x="1400" y="22421"/>
                </a:lnTo>
                <a:lnTo>
                  <a:pt x="20200" y="22421"/>
                </a:lnTo>
                <a:close/>
              </a:path>
              <a:path fill="lighten" w="21600" h="23821">
                <a:moveTo>
                  <a:pt x="0" y="238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21"/>
                </a:lnTo>
                <a:close/>
              </a:path>
              <a:path fill="darken" w="21600" h="23821">
                <a:moveTo>
                  <a:pt x="3794" y="4904"/>
                </a:moveTo>
                <a:lnTo>
                  <a:pt x="17806" y="11911"/>
                </a:lnTo>
                <a:lnTo>
                  <a:pt x="3794" y="189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3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733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Cabello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2743200" cy="2220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rId2" action="ppaction://hlinksldjump"/>
          </p:cNvPr>
          <p:cNvSpPr/>
          <p:nvPr/>
        </p:nvSpPr>
        <p:spPr>
          <a:xfrm>
            <a:off x="8077320" y="5715000"/>
            <a:ext cx="814320" cy="81432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00200" y="609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Vaca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590920"/>
            <a:ext cx="3373560" cy="27795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240" y="2895480"/>
            <a:ext cx="225756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8001000" y="5867280"/>
            <a:ext cx="814320" cy="81468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14680"/>
              <a:gd name="textAreaBottom" fmla="*/ 762120 h 81468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8"/>
                </a:moveTo>
                <a:lnTo>
                  <a:pt x="17806" y="10805"/>
                </a:lnTo>
                <a:lnTo>
                  <a:pt x="3794" y="178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269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057400" y="609480"/>
            <a:ext cx="5381640" cy="107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ts Review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11430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e will review some of the fun facts we learned about Mex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Read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lick the answer you think is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ry your B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046680" cy="3325680"/>
          </a:xfrm>
          <a:prstGeom prst="rect">
            <a:avLst/>
          </a:prstGeom>
          <a:ln w="0">
            <a:noFill/>
          </a:ln>
        </p:spPr>
      </p:pic>
      <p:sp>
        <p:nvSpPr>
          <p:cNvPr id="400" name="">
            <a:hlinkClick r:id="" action="ppaction://hlinkshowjump?jump=nextslide"/>
          </p:cNvPr>
          <p:cNvSpPr/>
          <p:nvPr/>
        </p:nvSpPr>
        <p:spPr>
          <a:xfrm>
            <a:off x="8229600" y="594360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76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Vaca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373560" cy="277956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rId2" action="ppaction://hlinksldjump"/>
          </p:cNvPr>
          <p:cNvSpPr/>
          <p:nvPr/>
        </p:nvSpPr>
        <p:spPr>
          <a:xfrm>
            <a:off x="7848720" y="586728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609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Libro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048120"/>
            <a:ext cx="3119400" cy="18414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19920" y="3048120"/>
            <a:ext cx="182088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>
            <a:hlinkClick r:id="rId1" action="ppaction://hlinksldjump"/>
          </p:cNvPr>
          <p:cNvSpPr/>
          <p:nvPr/>
        </p:nvSpPr>
        <p:spPr>
          <a:xfrm>
            <a:off x="7848720" y="5791320"/>
            <a:ext cx="966600" cy="890640"/>
          </a:xfrm>
          <a:custGeom>
            <a:avLst/>
            <a:gdLst>
              <a:gd name="textAreaLeft" fmla="*/ 57600 w 966600"/>
              <a:gd name="textAreaRight" fmla="*/ 909000 w 9666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3441" h="21600">
                <a:moveTo>
                  <a:pt x="0" y="0"/>
                </a:moveTo>
                <a:lnTo>
                  <a:pt x="23441" y="0"/>
                </a:lnTo>
                <a:lnTo>
                  <a:pt x="23441" y="21600"/>
                </a:lnTo>
                <a:lnTo>
                  <a:pt x="0" y="21600"/>
                </a:lnTo>
                <a:close/>
              </a:path>
              <a:path fill="lightenLess" w="23441" h="21600">
                <a:moveTo>
                  <a:pt x="0" y="0"/>
                </a:moveTo>
                <a:lnTo>
                  <a:pt x="23441" y="0"/>
                </a:lnTo>
                <a:lnTo>
                  <a:pt x="22041" y="1400"/>
                </a:lnTo>
                <a:lnTo>
                  <a:pt x="1400" y="1400"/>
                </a:lnTo>
                <a:close/>
              </a:path>
              <a:path fill="darken" w="23441" h="21600">
                <a:moveTo>
                  <a:pt x="23441" y="0"/>
                </a:moveTo>
                <a:lnTo>
                  <a:pt x="23441" y="21600"/>
                </a:lnTo>
                <a:lnTo>
                  <a:pt x="22041" y="20200"/>
                </a:lnTo>
                <a:lnTo>
                  <a:pt x="22041" y="1400"/>
                </a:lnTo>
                <a:close/>
              </a:path>
              <a:path fill="darkenLess" w="23441" h="21600">
                <a:moveTo>
                  <a:pt x="23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1" y="20200"/>
                </a:lnTo>
                <a:close/>
              </a:path>
              <a:path fill="lighten" w="23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1" h="21600">
                <a:moveTo>
                  <a:pt x="4714" y="3794"/>
                </a:moveTo>
                <a:lnTo>
                  <a:pt x="18727" y="10800"/>
                </a:lnTo>
                <a:lnTo>
                  <a:pt x="47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838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9" name=""/>
          <p:cNvSpPr/>
          <p:nvPr/>
        </p:nvSpPr>
        <p:spPr>
          <a:xfrm>
            <a:off x="-457200" y="34290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Libro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119400" cy="1841400"/>
          </a:xfrm>
          <a:prstGeom prst="rect">
            <a:avLst/>
          </a:prstGeom>
          <a:ln w="0">
            <a:noFill/>
          </a:ln>
        </p:spPr>
      </p:pic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772400" y="571500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3794"/>
                </a:moveTo>
                <a:lnTo>
                  <a:pt x="18818" y="10800"/>
                </a:lnTo>
                <a:lnTo>
                  <a:pt x="48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523880" y="228600"/>
            <a:ext cx="58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at kind of plants are in Mexic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57800" y="3505320"/>
            <a:ext cx="2778120" cy="28191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3581280"/>
            <a:ext cx="2514600" cy="2452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6" name="">
            <a:hlinkClick r:id="rId1" action="ppaction://hlinksldjump"/>
          </p:cNvPr>
          <p:cNvSpPr/>
          <p:nvPr/>
        </p:nvSpPr>
        <p:spPr>
          <a:xfrm>
            <a:off x="7848720" y="5486400"/>
            <a:ext cx="966600" cy="890640"/>
          </a:xfrm>
          <a:custGeom>
            <a:avLst/>
            <a:gdLst>
              <a:gd name="textAreaLeft" fmla="*/ 57600 w 966600"/>
              <a:gd name="textAreaRight" fmla="*/ 909000 w 9666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3441" h="21600">
                <a:moveTo>
                  <a:pt x="0" y="0"/>
                </a:moveTo>
                <a:lnTo>
                  <a:pt x="23441" y="0"/>
                </a:lnTo>
                <a:lnTo>
                  <a:pt x="23441" y="21600"/>
                </a:lnTo>
                <a:lnTo>
                  <a:pt x="0" y="21600"/>
                </a:lnTo>
                <a:close/>
              </a:path>
              <a:path fill="lightenLess" w="23441" h="21600">
                <a:moveTo>
                  <a:pt x="0" y="0"/>
                </a:moveTo>
                <a:lnTo>
                  <a:pt x="23441" y="0"/>
                </a:lnTo>
                <a:lnTo>
                  <a:pt x="22041" y="1400"/>
                </a:lnTo>
                <a:lnTo>
                  <a:pt x="1400" y="1400"/>
                </a:lnTo>
                <a:close/>
              </a:path>
              <a:path fill="darken" w="23441" h="21600">
                <a:moveTo>
                  <a:pt x="23441" y="0"/>
                </a:moveTo>
                <a:lnTo>
                  <a:pt x="23441" y="21600"/>
                </a:lnTo>
                <a:lnTo>
                  <a:pt x="22041" y="20200"/>
                </a:lnTo>
                <a:lnTo>
                  <a:pt x="22041" y="1400"/>
                </a:lnTo>
                <a:close/>
              </a:path>
              <a:path fill="darkenLess" w="23441" h="21600">
                <a:moveTo>
                  <a:pt x="23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1" y="20200"/>
                </a:lnTo>
                <a:close/>
              </a:path>
              <a:path fill="lighten" w="23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1" h="21600">
                <a:moveTo>
                  <a:pt x="4714" y="3794"/>
                </a:moveTo>
                <a:lnTo>
                  <a:pt x="18727" y="10800"/>
                </a:lnTo>
                <a:lnTo>
                  <a:pt x="47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888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335268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oper Black"/>
              </a:rPr>
              <a:t>Try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396252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523880" y="228600"/>
            <a:ext cx="58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What do farmers and bullfighters we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295280" y="3505320"/>
            <a:ext cx="1981440" cy="2288520"/>
            <a:chOff x="1295280" y="3505320"/>
            <a:chExt cx="1981440" cy="2288520"/>
          </a:xfrm>
        </p:grpSpPr>
        <p:pic>
          <p:nvPicPr>
            <p:cNvPr id="493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295280" y="3505320"/>
              <a:ext cx="198144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5960" y="533412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Sombr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324480" y="3733920"/>
            <a:ext cx="1990800" cy="1983600"/>
            <a:chOff x="6324480" y="3733920"/>
            <a:chExt cx="1990800" cy="1983600"/>
          </a:xfrm>
        </p:grpSpPr>
        <p:pic>
          <p:nvPicPr>
            <p:cNvPr id="496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324480" y="3733920"/>
              <a:ext cx="19908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729840" y="525780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7772400" y="5791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348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371600" y="165744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335268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oper Black"/>
              </a:rPr>
              <a:t>Try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38480" y="487692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10800"/>
                </a:moveTo>
                <a:lnTo>
                  <a:pt x="18818" y="3794"/>
                </a:lnTo>
                <a:lnTo>
                  <a:pt x="188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94520" y="304920"/>
            <a:ext cx="405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What colors 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Mexic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523880" y="4419720"/>
            <a:ext cx="1981440" cy="1523880"/>
            <a:chOff x="1523880" y="4419720"/>
            <a:chExt cx="1981440" cy="1523880"/>
          </a:xfrm>
        </p:grpSpPr>
        <p:sp>
          <p:nvSpPr>
            <p:cNvPr id="403" name="">
              <a:hlinkClick r:id="rId1" action="ppaction://hlinksldjump"/>
            </p:cNvPr>
            <p:cNvSpPr/>
            <p:nvPr/>
          </p:nvSpPr>
          <p:spPr>
            <a:xfrm>
              <a:off x="1523880" y="4419720"/>
              <a:ext cx="19814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rId2" action="ppaction://hlinksldjump"/>
            </p:cNvPr>
            <p:cNvSpPr/>
            <p:nvPr/>
          </p:nvSpPr>
          <p:spPr>
            <a:xfrm>
              <a:off x="1600200" y="4572000"/>
              <a:ext cx="1828800" cy="120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Pur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Yel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943600" y="4419720"/>
            <a:ext cx="1981080" cy="1523880"/>
            <a:chOff x="5943600" y="4419720"/>
            <a:chExt cx="1981080" cy="1523880"/>
          </a:xfrm>
        </p:grpSpPr>
        <p:sp>
          <p:nvSpPr>
            <p:cNvPr id="406" name="">
              <a:hlinkClick r:id="rId3" action="ppaction://hlinksldjump"/>
            </p:cNvPr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>
              <a:hlinkClick r:id="rId4" action="ppaction://hlinksldjump"/>
            </p:cNvPr>
            <p:cNvSpPr/>
            <p:nvPr/>
          </p:nvSpPr>
          <p:spPr>
            <a:xfrm>
              <a:off x="6019560" y="4572000"/>
              <a:ext cx="1828440" cy="120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3733920" y="2438280"/>
            <a:ext cx="1955520" cy="1733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523880" y="228600"/>
            <a:ext cx="58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at is the main crop in Mexic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095880" y="3352680"/>
            <a:ext cx="1716120" cy="20574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476440" cy="2085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89548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849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371600" y="165744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1" name=""/>
          <p:cNvSpPr/>
          <p:nvPr/>
        </p:nvSpPr>
        <p:spPr>
          <a:xfrm>
            <a:off x="2971800" y="335268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oper Black"/>
              </a:rPr>
              <a:t>Try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67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3880" y="228600"/>
            <a:ext cx="58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ich is a very stubborn animal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219320" y="3200400"/>
            <a:ext cx="1922400" cy="2745720"/>
            <a:chOff x="1219320" y="3200400"/>
            <a:chExt cx="1922400" cy="274572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1219320" y="3200400"/>
              <a:ext cx="192240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505520" y="548640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Bur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400800" y="3429000"/>
            <a:ext cx="1473120" cy="2440800"/>
            <a:chOff x="6400800" y="3429000"/>
            <a:chExt cx="1473120" cy="24408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00800" y="3429000"/>
              <a:ext cx="147312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764040" y="5410080"/>
              <a:ext cx="9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Du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289548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772400" y="5791320"/>
            <a:ext cx="814320" cy="89064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90640"/>
              <a:gd name="textAreaBottom" fmla="*/ 838080 h 890640"/>
            </a:gdLst>
            <a:ahLst/>
            <a:rect l="textAreaLeft" t="textAreaTop" r="textAreaRight" b="textAreaBottom"/>
            <a:pathLst>
              <a:path w="21600" h="23624">
                <a:moveTo>
                  <a:pt x="0" y="0"/>
                </a:moveTo>
                <a:lnTo>
                  <a:pt x="21600" y="0"/>
                </a:lnTo>
                <a:lnTo>
                  <a:pt x="21600" y="23624"/>
                </a:lnTo>
                <a:lnTo>
                  <a:pt x="0" y="23624"/>
                </a:lnTo>
                <a:close/>
              </a:path>
              <a:path fill="lightenLess" w="21600" h="23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24">
                <a:moveTo>
                  <a:pt x="21600" y="0"/>
                </a:moveTo>
                <a:lnTo>
                  <a:pt x="21600" y="23624"/>
                </a:lnTo>
                <a:lnTo>
                  <a:pt x="20200" y="22224"/>
                </a:lnTo>
                <a:lnTo>
                  <a:pt x="20200" y="1400"/>
                </a:lnTo>
                <a:close/>
              </a:path>
              <a:path fill="darkenLess" w="21600" h="23624">
                <a:moveTo>
                  <a:pt x="21600" y="23624"/>
                </a:moveTo>
                <a:lnTo>
                  <a:pt x="0" y="23624"/>
                </a:lnTo>
                <a:lnTo>
                  <a:pt x="1400" y="22224"/>
                </a:lnTo>
                <a:lnTo>
                  <a:pt x="20200" y="22224"/>
                </a:lnTo>
                <a:close/>
              </a:path>
              <a:path fill="lighten" w="21600" h="23624">
                <a:moveTo>
                  <a:pt x="0" y="23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24"/>
                </a:lnTo>
                <a:close/>
              </a:path>
              <a:path fill="darken" w="21600" h="23624">
                <a:moveTo>
                  <a:pt x="3794" y="4805"/>
                </a:moveTo>
                <a:lnTo>
                  <a:pt x="17806" y="11812"/>
                </a:lnTo>
                <a:lnTo>
                  <a:pt x="3794" y="188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838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371600" y="165744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/>
          <p:nvPr/>
        </p:nvSpPr>
        <p:spPr>
          <a:xfrm>
            <a:off x="2971800" y="335268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oper Black"/>
              </a:rPr>
              <a:t>Try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148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066680" y="9907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Britannic Bold"/>
              </a:rPr>
              <a:t>That’s i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71320" y="4114800"/>
            <a:ext cx="58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itannic Bold"/>
              </a:rPr>
              <a:t>I am proud of your hard work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800600" y="220968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000680" cy="322092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001000" y="5867280"/>
            <a:ext cx="814320" cy="81468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14680"/>
              <a:gd name="textAreaBottom" fmla="*/ 762120 h 81468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8"/>
                </a:moveTo>
                <a:lnTo>
                  <a:pt x="17806" y="10805"/>
                </a:lnTo>
                <a:lnTo>
                  <a:pt x="3794" y="178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88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057400" y="6094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17524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Look at the Mexican Flag and try ag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124080" cy="251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3429000" y="4648320"/>
            <a:ext cx="1981080" cy="1523880"/>
            <a:chOff x="3429000" y="4648320"/>
            <a:chExt cx="1981080" cy="1523880"/>
          </a:xfrm>
        </p:grpSpPr>
        <p:sp>
          <p:nvSpPr>
            <p:cNvPr id="417" name="">
              <a:hlinkClick r:id="rId2" action="ppaction://hlinksldjump"/>
            </p:cNvPr>
            <p:cNvSpPr/>
            <p:nvPr/>
          </p:nvSpPr>
          <p:spPr>
            <a:xfrm>
              <a:off x="3429000" y="4648320"/>
              <a:ext cx="19810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>
              <a:hlinkClick r:id="rId3" action="ppaction://hlinksldjump"/>
            </p:cNvPr>
            <p:cNvSpPr/>
            <p:nvPr/>
          </p:nvSpPr>
          <p:spPr>
            <a:xfrm>
              <a:off x="3504960" y="4800600"/>
              <a:ext cx="1828440" cy="120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Gre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835360" y="243828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Verde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1981080" y="4191120"/>
            <a:ext cx="1219320" cy="1523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2" action="ppaction://hlinksldjump"/>
          </p:cNvPr>
          <p:cNvSpPr/>
          <p:nvPr/>
        </p:nvSpPr>
        <p:spPr>
          <a:xfrm>
            <a:off x="5867280" y="4191120"/>
            <a:ext cx="1219320" cy="1523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611280" y="228600"/>
            <a:ext cx="22082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743200" y="1905120"/>
            <a:ext cx="3743280" cy="23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/>
          <p:nvPr/>
        </p:nvSpPr>
        <p:spPr>
          <a:xfrm>
            <a:off x="7696080" y="5562720"/>
            <a:ext cx="966960" cy="890640"/>
          </a:xfrm>
          <a:custGeom>
            <a:avLst/>
            <a:gdLst>
              <a:gd name="textAreaLeft" fmla="*/ 57600 w 966960"/>
              <a:gd name="textAreaRight" fmla="*/ 909360 w 96696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3450" h="21600">
                <a:moveTo>
                  <a:pt x="0" y="0"/>
                </a:moveTo>
                <a:lnTo>
                  <a:pt x="23450" y="0"/>
                </a:lnTo>
                <a:lnTo>
                  <a:pt x="23450" y="21600"/>
                </a:lnTo>
                <a:lnTo>
                  <a:pt x="0" y="21600"/>
                </a:lnTo>
                <a:close/>
              </a:path>
              <a:path fill="lightenLess" w="23450" h="21600">
                <a:moveTo>
                  <a:pt x="0" y="0"/>
                </a:moveTo>
                <a:lnTo>
                  <a:pt x="23450" y="0"/>
                </a:lnTo>
                <a:lnTo>
                  <a:pt x="22050" y="1400"/>
                </a:lnTo>
                <a:lnTo>
                  <a:pt x="1400" y="1400"/>
                </a:lnTo>
                <a:close/>
              </a:path>
              <a:path fill="darken" w="23450" h="21600">
                <a:moveTo>
                  <a:pt x="23450" y="0"/>
                </a:moveTo>
                <a:lnTo>
                  <a:pt x="23450" y="21600"/>
                </a:lnTo>
                <a:lnTo>
                  <a:pt x="22050" y="20200"/>
                </a:lnTo>
                <a:lnTo>
                  <a:pt x="22050" y="1400"/>
                </a:lnTo>
                <a:close/>
              </a:path>
              <a:path fill="darkenLess" w="23450" h="21600">
                <a:moveTo>
                  <a:pt x="23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0" y="20200"/>
                </a:lnTo>
                <a:close/>
              </a:path>
              <a:path fill="lighten" w="23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0" h="21600">
                <a:moveTo>
                  <a:pt x="4719" y="3794"/>
                </a:moveTo>
                <a:lnTo>
                  <a:pt x="18732" y="10800"/>
                </a:lnTo>
                <a:lnTo>
                  <a:pt x="47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888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7" name=""/>
          <p:cNvSpPr/>
          <p:nvPr/>
        </p:nvSpPr>
        <p:spPr>
          <a:xfrm>
            <a:off x="1463760" y="327672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Verde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38680" y="3048120"/>
            <a:ext cx="1219320" cy="1523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7924680" y="571500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3794"/>
                </a:moveTo>
                <a:lnTo>
                  <a:pt x="18818" y="10800"/>
                </a:lnTo>
                <a:lnTo>
                  <a:pt x="48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830680" y="609480"/>
            <a:ext cx="35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Blanco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981080" y="2362320"/>
            <a:ext cx="12956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5943600" y="2286000"/>
            <a:ext cx="1295280" cy="1143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3646440" y="3581280"/>
            <a:ext cx="176364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1:55:17Z</dcterms:created>
  <dc:creator> </dc:creator>
  <dc:description/>
  <dc:language>en-US</dc:language>
  <cp:lastModifiedBy> </cp:lastModifiedBy>
  <dcterms:modified xsi:type="dcterms:W3CDTF">2007-03-22T02:33:31Z</dcterms:modified>
  <cp:revision>9</cp:revision>
  <dc:subject/>
  <dc:title>Slide 1</dc:title>
</cp:coreProperties>
</file>